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9EF-228A-4E98-8CC3-7C95BFCA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6AD-41CB-4744-A501-77ABF2B1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EFE-1F6A-4B8C-B595-87A38A42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AB8-EB76-4EB0-9FA7-D7F20337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E9E8F-89DA-45E4-B191-7B2896D7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28240-B312-491A-A26C-CE627C03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FD448-7228-4DC6-83E4-0C8E0C2F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18715-6BCC-4FA3-A7D0-262F5570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09E0B-AA35-40C9-AD6E-3B697E57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D5673-D23A-49AB-B19B-726CE6D6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38A78-1CB4-4BCC-82D3-F0068635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521-903E-439C-B5E7-1BD400B1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42CD9-59AC-4EE4-92B4-024DDB2E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66981-4810-4701-9D2C-9FCF6E24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545FF-653F-4505-97F9-037EC82A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79EB9-3EE6-43F1-B704-F462F4D2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9373B-7F62-4F13-95D4-263ADC0D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4053-57CF-4CB3-A64D-828E2D7E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AA7BA-C153-4537-AC27-35D20FFC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04B8-FA8E-4AD0-9DB2-6C958505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07B6-C881-43E1-81C1-C3566604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22CDA-D553-462A-B2BE-C9A7AB1B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6D4-157A-4338-A596-D5B1EAD7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C414-4DB9-4536-A47C-ECBDCEBE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7DB8-D29B-4A20-912B-45A1F27C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E9D4-03FC-44F1-9C62-5F08413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3D43-95EA-4AFF-89E7-30AAAC90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2811-D98B-449D-8D71-E91E5C31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354F-BBF6-4ABA-B74E-193F5929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E24E4-22EE-46CA-A907-A88ADE5F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B4D464-3737-4893-90B3-709F6A64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1CB52-C8B4-4B17-B37A-5BE62F1A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4C33D-1526-41E9-BB0E-80DD938A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E1C-D3FF-4C75-9BB1-2D837CE8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B7F83-81BB-4ED5-AADE-F2EEDBCB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4C819-A4BE-41E1-A0EA-E03B24CF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E623C-287C-4A70-AD2E-C1C90ED7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57E35-7B25-4069-8688-520C24E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AF620-56D9-48D6-8C88-947EAFE5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027A7-E1FC-409A-87A8-248B175E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BB45D-48DA-41E4-B1A8-B2BE26F0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32F19-58C8-4649-BAD3-F471BF6F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DCFFA-080F-4226-8FFB-0599AED5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0B2-727D-4C25-BD07-41F39C9E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95D-BAC4-4A85-B14B-8F165180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E8A-1E5C-4A49-9700-877C648F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806-17AD-4142-B1DC-8C7F7DE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7A0-7987-48D0-A637-6BAD2A3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5406-3F03-44BF-AF68-A85E6038280A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842f73"/>
          </a:solidFill>
          <a:ln w="38160">
            <a:solidFill>
              <a:srgbClr val="842f73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B36B-0C0E-47EC-B666-21A0DF2E6835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A88B-92FF-4D24-A2AC-85BFA2C217A2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E3D0-BD1C-4C54-88DA-AC69F3D877B7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einstein-clipart.gif"/>
          <p:cNvPicPr/>
          <p:nvPr/>
        </p:nvPicPr>
        <p:blipFill>
          <a:blip r:embed="rId1"/>
          <a:stretch/>
        </p:blipFill>
        <p:spPr>
          <a:xfrm>
            <a:off x="247680" y="533520"/>
            <a:ext cx="8896320" cy="6095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4648320" y="1676520"/>
            <a:ext cx="3581280" cy="1447560"/>
          </a:xfrm>
          <a:prstGeom prst="rect">
            <a:avLst/>
          </a:prstGeom>
          <a:solidFill>
            <a:srgbClr val="007600"/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4800600" y="1523880"/>
            <a:ext cx="373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Smart is something you GET, not something you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828800" y="1828800"/>
            <a:ext cx="5715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You Can Grow Your Intellig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nstantia"/>
              </a:rPr>
              <a:t>New Research Shows the Brain Can Be Developed Like a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1828800" y="160020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Constantia"/>
              </a:rPr>
              <a:t>MINDSE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The ideas and attitudes with which a person approaches a sit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1828800" y="1981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FIXED MIND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The belief that your basic qualities, such as intelligence or talent, are fixed tra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1828800" y="1981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GROWTH MIND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The belief that your basic abilities can be developed through dedication and hard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1828800" y="27432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Which mindset do you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2:11:35Z</dcterms:created>
  <dc:creator>Kim</dc:creator>
  <dc:description/>
  <dc:language>en-US</dc:language>
  <cp:lastModifiedBy>Kim</cp:lastModifiedBy>
  <dcterms:modified xsi:type="dcterms:W3CDTF">2013-08-25T01:03:46Z</dcterms:modified>
  <cp:revision>4</cp:revision>
  <dc:subject/>
  <dc:title>Slide 1</dc:title>
</cp:coreProperties>
</file>